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C1D-EBBF-44A1-B1BE-5F62124E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37A-5438-4188-AC9D-02E7D0DF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D0A-B294-4E38-8A21-60926AE6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EC4-8423-43EA-8A04-AC64407D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B593-EF8E-42AD-BE8A-BBA51EC1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9194-5CCC-4F81-A4CC-F270E788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FCC1-8D3A-4D60-9A6D-65A0E815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B2A1-5C12-4B60-B159-733F7E2F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4E23-8A90-436D-8C4A-1C9E1D86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ABBE-CFF3-41FC-B608-B34998DE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A4C7-6CED-4FA4-B4FC-248D4FE4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0DC-53E4-480B-A395-D427B211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8920-BC7B-4272-9391-560E1A59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EB47-09D6-4738-96AD-08D6EDD4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5814-09AF-4993-AFC4-2B4E9714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F74D-15AD-4E90-81A0-AC8E3AC5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A87A-8CCD-4781-A5A5-B8309664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12EE-BEEC-47B5-AD94-7EF02929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3CB2-19DA-4AD4-A23C-FCC5F87A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DA5B-D2E1-4D26-A270-7CAA4110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C891-28BF-4B6D-8CA0-FE9EB77D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8CF9-2124-422E-8070-870760C4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10C-9465-4CD5-8A8E-6448011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F0B9-371C-48EF-BF1C-DE3CC0D8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81D5-B68C-4349-B76D-F587CC7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1F41-968D-4BFB-B644-E5367357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77C9-166E-4359-9132-45D64AD8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95F1-4443-4BC5-AC4E-CBB4B590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F95A-4B3C-4044-B40B-1A31C866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58EA-3242-4487-AF80-2ED5F514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5A06-AE29-4332-8BB6-9BC75EC1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9962-476B-47A9-B0C3-466338F6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BA79-BEC6-4DAA-A55D-70935515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680-1A28-4E13-9774-431070DE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A297-6C17-4A05-A048-159A9433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A931-E125-49C0-8499-1AEC5523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38FE-A789-4F24-9B04-189124B4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61E7-62E0-4752-9A17-7789A22B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A470-6C04-45D4-AD07-0F3579D2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86EA-C010-4E84-907A-4A6881FF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2B33-BC60-4C4A-B167-365C484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85F6-2ECE-4FCE-AAD2-6A16039F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3214F-D4F7-4318-A128-BA3D0686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03BD8-4BAD-469D-B6EA-DFDAB4F9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4F3-D24F-4E44-8ED2-8C29C237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8CEEE-DF40-4336-88A6-FA9A902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294C-A6B1-465B-AB12-70BD6535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F50A-EFA1-40E5-9F24-9BA0E71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36DC2-94CA-4D3F-B37B-0FA71DDC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FED76-D78F-4BAD-AAB3-F3A0CB16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B68F7-DF3F-46B6-B210-246A4D8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8139B-62F4-45AE-BC22-B80D7A06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0DA35-D0FB-48B3-BED3-34938053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AF0D7-D2F4-4C36-82A4-B9B0DD7F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411C7-FD14-459D-8C48-17749764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36C-6962-4D4D-9D12-D696AAC3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A8AE-F4DC-4ECD-996A-CB96F193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DD9-C024-490C-82B4-BD03AEB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9AE-615C-497F-8337-5C607631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1F4-A2A8-4E03-B603-449A703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8193-5005-4CCD-AE32-7F951D9F23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51CE-E9B2-4274-A18B-D5E4335EC1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0113-397A-4766-B2E4-39803D3C9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1EEE-A557-474A-9F66-2D2A35E95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D623-BEE4-4BD4-A2B4-0A09C43A8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16286" r="0" b="0"/>
          <a:stretch/>
        </p:blipFill>
        <p:spPr>
          <a:xfrm>
            <a:off x="3200400" y="2286000"/>
            <a:ext cx="4525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abBruD"/>
              </a:rPr>
              <a:t>What Christmas means to James Derane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abBruD"/>
              </a:rPr>
              <a:t>The story of what Christmas mean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25320" y="696960"/>
            <a:ext cx="789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ristmas to me means a gathering of family and a feast with friends and having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33412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t also means to me how Baby Jesus wa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al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0" t="7577" r="0" b="11602"/>
          <a:stretch/>
        </p:blipFill>
        <p:spPr>
          <a:xfrm>
            <a:off x="2514600" y="1676520"/>
            <a:ext cx="4525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447920" y="328680"/>
            <a:ext cx="5695920" cy="6067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447920" y="304920"/>
            <a:ext cx="5848200" cy="6256080"/>
          </a:xfrm>
          <a:prstGeom prst="rect">
            <a:avLst/>
          </a:prstGeom>
          <a:noFill/>
          <a:ln w="165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e 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g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o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f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C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t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600" spc="-1" strike="noStrike">
                <a:solidFill>
                  <a:srgbClr val="008000"/>
                </a:solidFill>
                <a:latin typeface="Comic Sans MS"/>
              </a:rPr>
              <a:t>.</a:t>
            </a:r>
            <a:br>
              <a:rPr sz="2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hristmas is a time when the family gets to all be together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 You get to give presents to family and friends, and you also get presents too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here is always a great dinner prepared at the Christmas party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It is real fun to talk and play games with all your relatives that you barely get to see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You can watch movies, play games, or you can just talk and hang out with your cousins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You get to bake and decorate cookies for Santa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You also get to put up and decorate a Christmas tree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You can go outside in the snow and build a snow man or even have a snowball fight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You also get to listen to a lot of Christmas songs too.</a:t>
            </a:r>
            <a:br>
              <a:rPr sz="1600"/>
            </a:b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Christmas is my favorite time of year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hl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rcRect l="0" t="13760" r="0" b="0"/>
          <a:stretch/>
        </p:blipFill>
        <p:spPr>
          <a:xfrm>
            <a:off x="3962520" y="1600200"/>
            <a:ext cx="45259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7213400" y="10641348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07213400" y="112671360"/>
            <a:ext cx="5943600" cy="9712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07365680" y="10656576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07365680" y="112823640"/>
            <a:ext cx="5943600" cy="9716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7518320" y="106718040"/>
            <a:ext cx="594360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07518320" y="112975920"/>
            <a:ext cx="5943600" cy="9716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07670600" y="10687068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07670600" y="113128560"/>
            <a:ext cx="5943600" cy="971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07822880" y="10702296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107822880" y="113280840"/>
            <a:ext cx="5943600" cy="971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62120" y="457200"/>
            <a:ext cx="693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What Christmas is all ab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1.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2. Remembering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3. Celebrating Jesus’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4. Santa Cl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5. G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6.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7.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8. Christmas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9. Christmas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10.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9900"/>
                </a:solidFill>
                <a:latin typeface="Arial"/>
              </a:rPr>
              <a:t>11.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12.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0000"/>
                </a:solidFill>
                <a:latin typeface="Arial"/>
              </a:rPr>
              <a:t>By. Ash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7975520" y="107175240"/>
            <a:ext cx="594360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107975520" y="113433120"/>
            <a:ext cx="5943600" cy="971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90720" y="6858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8127800" y="107327880"/>
            <a:ext cx="5943600" cy="69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at Christmas is all ab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.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2. Remembering Je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3. Celebrating Jesus’ 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. Santa Cla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5. G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6.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7. F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8. Christmas So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9. Christma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0.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11. S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2. L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y. Ashl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108127800" y="113585760"/>
            <a:ext cx="5943600" cy="971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1600200" y="5334120"/>
            <a:ext cx="59436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1:16:04Z</dcterms:created>
  <dc:creator>kids</dc:creator>
  <dc:description/>
  <dc:language>en-US</dc:language>
  <cp:lastModifiedBy>Patrick Mooney</cp:lastModifiedBy>
  <dcterms:modified xsi:type="dcterms:W3CDTF">2008-12-15T14:18:21Z</dcterms:modified>
  <cp:revision>26</cp:revision>
  <dc:subject/>
  <dc:title>Austin</dc:title>
</cp:coreProperties>
</file>